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F15-335A-4FE9-8FD1-1C45A8E61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9EC8-FEEF-4E0E-8CAE-5A9EF46F2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151-FE28-4CF8-B876-7FF48B8E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492-F5CD-43F5-92A1-CECBBB93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7F1-8BFC-41A3-8E57-95B522F8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E29-3AB6-4653-AC86-5AB7FB38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3E1-C714-4450-98BA-FA08C92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757-B59B-4537-B44F-661D60B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4AA-604C-46D5-B81B-6F72D912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BFF-0DC0-46D5-9217-83F98636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9A0-51D2-492B-993D-DADB12DA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9F3-6DC5-40F9-8595-E3E16D0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FBE-F11D-45F9-8BA2-68AF841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7B9-AE07-46C6-947F-7EF772C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AE1-CED2-478B-AEC1-64C4A88BB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4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едијатрија – Исхрана 6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3852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НАКЕ РАХИТИ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БИЈА ПРОФИЛАКС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Т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2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КАЛНЕ ФОСФАТА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илс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. Д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СНИ РАХИТИ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слеђ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Рахи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зистента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е до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хи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-6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идроксила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0,5-2 g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a  5000-100 000 i.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едостај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ре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то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дг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имулацију физиолошким дозам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sr-Latn-RS" sz="1800" spc="-1" strike="noStrike">
                <a:solidFill>
                  <a:srgbClr val="000000"/>
                </a:solidFill>
                <a:latin typeface="Calibri"/>
              </a:rPr>
              <a:t>h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5-20gr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  i do 1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 000 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j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174760"/>
            <a:ext cx="419256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,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ез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za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р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р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асорпциј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обзи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6-9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кс.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убулск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ич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м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ла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раж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чко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ерио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иперфосфат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хипо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фатем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осфат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ијаб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оста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унд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TH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  PTH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-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пци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ре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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мал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с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1 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ушке дец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фрактарни на уобичајене дозе Вит. 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нгениталн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течен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ист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едуктаз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глобал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нсуфијенц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лучив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рин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K,Glu, P, HC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3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,P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белан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идиопатс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ешћ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расл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ЕКУН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НИ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istinoz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hereditarna intolerancija FR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alaktozemij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likogenoza Tip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Wilsonova boles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K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Ca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fosfaturija, aminoacidurija, K-uri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лабије напредовање у Т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застој у рас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ЦИТ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куд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г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F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ојазност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тр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тестинал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тивац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1,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со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-2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дроксил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конвулзиви,фенитон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400"/>
            <a:ext cx="404028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ЗЛИК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ВИТАМИНСКОГ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СУТН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ТОНИЈ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: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30-60 ngr /kg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ferol  10 - 75 000 i.j.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-4 gr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су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je i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ja 25 (OH) u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РЕЂИВА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Ca-URIJ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N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R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A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НОСА ВИТ. Д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T D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РЕДОЗИРАЊ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ог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</a:t>
            </a:r>
            <a:r>
              <a:rPr b="0" i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P -emij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ТПУ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докнада раста у вис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400"/>
            <a:ext cx="404172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враћ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норексиј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јас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хидр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аг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ПР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Т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ДНО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K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: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10-15 ngr/kg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alciferol  5- 50 000  i.j.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+ N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P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1-4 gr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 H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2-15 mmol/k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бавез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ХИПЕРВИТАМИНОЗ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76680" y="1066680"/>
            <a:ext cx="9525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– 4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ј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нтоксика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≥ 375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мо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( 150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г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лциноз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ктопич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епонован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к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оелект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асмиисије, мишић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sti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ука,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ремећај срчаног рит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депон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е бубре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фрокалциноза, хипетртензија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најтеж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њима ектопичне калцификације на Ртг миокарда, плућа, панкреаса и желуц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мене на крвним судовима и меким ткивим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рајна обележја интоксикације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Ca/Cr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≥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0,4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аж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агностичк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раметар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рестрик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обр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иурез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рониз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 И СИМПТОМИ ДЕФИЦ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Calibri"/>
              </a:rPr>
              <a:t>Vitamin D deficit je često klinički n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анифест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ц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: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ир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грче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Физикални 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шком дефицит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ц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тичне  пром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ериосални бол у костима на притис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рну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тиб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 ДЕФИЦИТА 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румск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 (OH) D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тату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зултат  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утритивног  уно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интез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ко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ТЕРПР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Ц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≤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50 nmol/l (  ≤ 20 ng/ml )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вер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,5 nmol/l  25 (OH) D = 1 ng /ml 25 (OH)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i="1" lang="sr-Latn-RS" sz="2400" spc="-1" strike="noStrike" u="sng">
                <a:solidFill>
                  <a:srgbClr val="ff0000"/>
                </a:solidFill>
                <a:uFillTx/>
                <a:latin typeface="Calibri"/>
              </a:rPr>
              <a:t>40 IJ Vit D = 1µg Vit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ДЕФИЦИТА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980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румс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центрација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≤ 5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≤ 2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дљивим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ефектима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ЕПОРУК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PGHA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71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ЕРУМСК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НЦЕНТРАЦИЈ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i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25(OH)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50 nmol/l ( 20 ng/l)   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25 nmol/l ( 10 ng/l)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179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хте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декват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1,25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ерумск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ре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налних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дејств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гатив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хитиса и остеомалациј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ног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63-8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вер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вропских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аљ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а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88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003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од.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66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каза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4-54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ублик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83%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описа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ф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мерика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р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ко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јен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(96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11:18:03Z</dcterms:created>
  <dc:creator>Corporate Edition</dc:creator>
  <dc:description/>
  <dc:language>en-US</dc:language>
  <cp:lastModifiedBy>USER</cp:lastModifiedBy>
  <dcterms:modified xsi:type="dcterms:W3CDTF">2017-09-25T06:42:34Z</dcterms:modified>
  <cp:revision>22</cp:revision>
  <dc:subject/>
  <dc:title>Slide 1</dc:title>
</cp:coreProperties>
</file>