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4DB2-4809-4CAD-8542-34FB9F6CD38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0451-B1AD-4EF1-B3C3-AB2D7C589FF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CB70-5EF2-40C7-BA54-C4493317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2420-A12A-4E49-A899-732419F6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656A-430E-485F-88A4-378944C2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7F47-4B87-40D6-B412-ABE0F5B6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6AF8-8DA6-466E-B620-94747821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AC7B-5BF4-4EE4-A80B-B5CBEFBF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7BC9-BB90-4BB8-9AD9-834D353F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6973-F9EF-41EC-93EF-6435C923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18EB-04FF-43C7-B58B-7493479E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4429-EBD6-4314-BB86-51421EB8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E35D-39E4-4720-BD88-6C0174A4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8C60-2CCC-4258-ADE2-29524CAE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C29E-0806-40B7-89DF-AE84FAD18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968560"/>
            <a:ext cx="777240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дијатрија – Исхрана 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иљана Вулет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1619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609480" y="11430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КE ДНЕВ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Х ПОТРЕБА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OЈ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51768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600200" y="2438280"/>
          <a:ext cx="6095880" cy="39020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ЗРАСТ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cal/k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0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3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ец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ец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еци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5080" y="990720"/>
            <a:ext cx="95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ИСТРИБУЦИЈА ПОТРОСЊЕ Kcal /kg /24h ОДOЈ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Т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09480" y="2057400"/>
            <a:ext cx="8093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ЗAЛНИ МЕТAБОLIЗАM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2-5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КТИВНОСT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-1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СТ               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-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УБИТАК ЕKСKРETИМА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-10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ПЕЦ. ДИНАМСКО DЕЈSТВO ХРАНЕ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8-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AК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AМ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ВЕ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ЊA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М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ПОTР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,5 Kc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28600" y="422280"/>
            <a:ext cx="8840880" cy="61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 У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ВНОТЕ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Ј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СХРАН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                            12%   ЕНEР. У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                                   42%   ( 35-45%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ГЉЕН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РАТ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46% (45-55%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гр УГЉЕНИХ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ДРАТA   (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)  = 4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гр БЕЛА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В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                                         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гр МАСТИ                                                          9,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437560" y="2276640"/>
            <a:ext cx="44434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ЛАН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ВИН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СТ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ГЉЕНИ ХИДРАТ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НЕРАЛНЕ СОЛ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ЛЕМЕНТИ У ТРАГ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5080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04920" y="762120"/>
            <a:ext cx="860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РАНЉИВЕ МАТЕРИЈЕ ЗНА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ЈНЕ У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И ДЕЦ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457200" y="380880"/>
            <a:ext cx="8229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Е ОДОЈ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ТА У ПРОТЕИН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04920" y="914400"/>
            <a:ext cx="860580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ТЕИНИ   ОБЕЗБЕ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ЈУ  АК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% ЕНЕРГИЈ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МИНО ГРУПА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H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  СИНТЕТ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 У ОРГАНИЗМУ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СЕНЦИЈАЛНИХ АК : 1.  ФЕНИЛ АЛАНИН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ИЗОЛЕУЦИН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 ЛЕУЦИН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 ЛИЗИН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 МЕТИОНИН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 ТРЕОНИН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 ТРИПТОФАН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 ВАЛИН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ЗА НЕДОНО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ШЧ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АД:  ЦИСТИН, АРГИНИН,ТИРОЗИН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и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ТАУРИН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6996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669960" y="80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973520" y="380880"/>
            <a:ext cx="50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Е У ПРОТЕИН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93640" y="156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19320" y="1143000"/>
          <a:ext cx="6400800" cy="5559480"/>
        </p:xfrm>
        <a:graphic>
          <a:graphicData uri="http://schemas.openxmlformats.org/drawingml/2006/table">
            <a:tbl>
              <a:tblPr/>
              <a:tblGrid>
                <a:gridCol w="3278160"/>
                <a:gridCol w="3122640"/>
              </a:tblGrid>
              <a:tr h="14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ЗРАС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ТЕИНИМ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6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12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3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6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-10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-14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-18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г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x 2,2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г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x 2,0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/4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/4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845640" y="447840"/>
            <a:ext cx="6938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E ОДOЈ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ТА У МAСТИM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821600" y="1828800"/>
            <a:ext cx="6834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СТИ  42% ЕНЕРГИЈ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ЕВНИ УНОС 5-6 гр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8% ТРИГЛИЦЕРИД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%    СЛОБОДНЕ МАСНЕ КИСЕЛИН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303640" y="380880"/>
            <a:ext cx="333504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СНЕ КИСЕЛИН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65840" y="1784520"/>
            <a:ext cx="69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ОЈ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АТОМА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ТКОЛА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Е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-6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РЕД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ЛА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Е    8-12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УГОЛА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Е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78440" y="3444840"/>
            <a:ext cx="53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ВОГУБА ВЕЗА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С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Н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ЗАС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Н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16240" y="4892760"/>
            <a:ext cx="8343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ЗАС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НЕ М.К.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ЈЕДНОСТРУКО (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НОНЕЗАСИ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НЕ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ВИ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ЕСТРУКО  ( ПОЛИНЕЗ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СИ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Ћ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ЕНЕ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859680" y="685800"/>
            <a:ext cx="82609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НОНЕЗАСИ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НЕ МАСНЕ КИСЕЛИ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АЛМИТООЛЕИНСК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ЛЕИНСК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лазе се у скоро свим мастим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ису неопходне у исхран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43960" y="3854520"/>
            <a:ext cx="7967160" cy="210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ЛИНЕЗАСИ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НЕ МАСНЕ КИСЕЛИ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СЕНЦИЈАЛ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ОЛНА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ОЛЕНСКА    ( мин 0,1% Е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CPUF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48680" y="371520"/>
            <a:ext cx="89517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Е ОДОЈ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ТА У  УГЉЕНИМ ХИДРАТ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42440" y="1260360"/>
            <a:ext cx="835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6% Е    сахароза,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руги дисахарид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монодсахариди  16%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кробне материје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НЕВНИ УНОС  10-15 гр/кг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 ОДСУСТВУ У.Х. ЗА  ЕНЕРГЕТСКЕ  ПОТРЕБ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СТ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ЕЛА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ВИН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ЊЕ ОД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5%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НОСА У.Х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ЕТОЗ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УБИТАК КАТЈОН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ХИДРАЦИЈ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04920" y="685800"/>
            <a:ext cx="8839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ЛИНИЧКА ПРОЦЕНА СТАЊА УХРАЊЕНОСТ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52560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990720" y="1905120"/>
            <a:ext cx="694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АРАМЕТРИ ЗА ПРОЦЕНУ СТАЊА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ХРАЊЕНОСТ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ТАЉНА  АНАМНЕЗА  О  ИСХРАН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ЛИНИЧКИ  ПРЕГЛЕ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РЕЊЕ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M, ТV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M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ВЕСНИ  ЛАБОРАТОРИЈСКИ  ПАРАМЕТР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gb,Hkt,Alb,F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647640" y="304920"/>
            <a:ext cx="672624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E OДOЈ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А У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НЕРАЛ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 MAТE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ЈAМ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909360" y="1260360"/>
            <a:ext cx="8236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ГУЛАЦИЈУ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ПСОРПЦИЈУ И ЕЛИМИНАЦИЈ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ИВО У КРВИ И ДРУГИМ СИСТЕМИМ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АКОДНЕВНЕ ПОТРЕБ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ЈАВУ ДИСБАЛАНС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ДРЕЂУЈ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СТ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ШИЋ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КТИВ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НДОКР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ТЕЖ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ДБУБРЕЖ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РМО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ИСЕЛ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РЕВИ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8908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0" y="295200"/>
            <a:ext cx="93502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КРОЕЛEMEН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0,005%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Ca,P, K,Na,Mg,Cl i 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П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НИ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В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У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Ц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% 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N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Ђ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T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J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ДЕЛОМ У СКЕЛЕТ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СВ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AK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И 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Г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AM 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УГРАЂЕНИХ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TE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ИН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У НОВА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ТКИ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                          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0,3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М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ИНЕРАЛА 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!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838080" y="446400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ЛИГОМИНЕРАЛ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ЛЕМЕН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АГ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n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e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47400" y="380880"/>
            <a:ext cx="862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ПОРУК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ЕВНИХ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ОЈЧ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КРОЕЛЕМЕНТИ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8908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5791320" cy="4620960"/>
        </p:xfrm>
        <a:graphic>
          <a:graphicData uri="http://schemas.openxmlformats.org/drawingml/2006/table">
            <a:tbl>
              <a:tblPr/>
              <a:tblGrid>
                <a:gridCol w="2286000"/>
                <a:gridCol w="1778040"/>
                <a:gridCol w="1727280"/>
              </a:tblGrid>
              <a:tr h="1549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РОЕЛ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ТИ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6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-12   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 mmol/k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   mmol/k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  mmol/24h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a mg/24h</a:t>
                      </a:r>
                      <a:r>
                        <a:rPr b="1" i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    mg/24h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mg/24h.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 –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о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l-SI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6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о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,5-2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о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l-SI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4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767160" y="447840"/>
            <a:ext cx="74322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Ч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669960" y="156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447920" y="1050840"/>
          <a:ext cx="6095880" cy="57387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24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ТАМ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6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-12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boflavin B</a:t>
                      </a:r>
                      <a:r>
                        <a:rPr b="1" i="1" lang="sl-SI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acin B </a:t>
                      </a:r>
                      <a:r>
                        <a:rPr b="1" i="1" lang="sl-SI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ridoksin B </a:t>
                      </a:r>
                      <a:r>
                        <a:rPr b="1" i="1" lang="sl-SI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 </a:t>
                      </a:r>
                      <a:r>
                        <a:rPr b="1" i="1" lang="sl-SI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 RE 4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00 i.j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. 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m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 m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 m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 m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133720" y="914400"/>
            <a:ext cx="4419360" cy="9471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Н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ЗА ИСХРА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990720" y="220968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ЕНЕРГЕТСК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НУТРИТИВН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РСТ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ОЈ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ДОЈЧ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ОБ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АЧИ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ИПРЕМ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БРОК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РЕМ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АСПОРЕ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ДАВАЊ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ОБРОК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ПЕТИ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ТЕТ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206080" y="1473120"/>
            <a:ext cx="4112640" cy="520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ЛИНИЧКИ ПРЕГЛЕ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700560" y="2438280"/>
            <a:ext cx="690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МЕРEЊЕ   ТЕЛEСНЕ  МАС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ЛEСНЕ ВИСIН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ТКOЖНОГ МАСНОГ ТКИВ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609480" y="4648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ФИЗIКАЛНИ ПРЕГЛEД  ОРГАНA  И СИСТЕМ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438560" y="1143000"/>
            <a:ext cx="6126120" cy="520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АБОРАТОРИЈСКИ ПАРАМЕТР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143000" y="2362320"/>
            <a:ext cx="4343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ЕМОГЛOБИ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48120" y="3048120"/>
            <a:ext cx="25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14400" y="3276720"/>
            <a:ext cx="5867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ЕМАТОКРИT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762120" y="396252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ЛБУМИНI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27672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1143000" y="5197320"/>
            <a:ext cx="3581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026"/>
          <p:cNvSpPr/>
          <p:nvPr/>
        </p:nvSpPr>
        <p:spPr>
          <a:xfrm>
            <a:off x="1115640" y="371520"/>
            <a:ext cx="524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A ОДOЈЧЕТ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27"/>
          <p:cNvSpPr/>
          <p:nvPr/>
        </p:nvSpPr>
        <p:spPr>
          <a:xfrm>
            <a:off x="830880" y="1981080"/>
            <a:ext cx="763596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Е КАРАКТЕРИСТИКЕ У ПРВОЈ ГОДИН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ВИСОКЕ НУТРИТИВНЕ ПОТРЕБ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ФИЗИОЛОШКА НЕЗРЕЛОС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80880" y="1522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 ЕНEРГEТСКЕ  И  НУТРИTIВНЕ  ПОТРЕБE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295280" y="342900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80880" y="1295280"/>
            <a:ext cx="8610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ЗРАСТ   ДЕЦ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ommercialPi BT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ЗИНА RAСТЕЊ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ommercialPi BT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ommercialPi BT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ЕПEН  ЗРEЛОСTИ  ОРГАНИЗМ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ЛEСНА МAСA И СТЕПЕН  УХРАЊEНОСТ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ЗIЧКА  AKТ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ОС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ЕНEТСКИ  ФАKTОР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713160" y="609480"/>
            <a:ext cx="59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ФИЗИОЛО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 НЕЗРЕЛО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95120" y="1641600"/>
            <a:ext cx="860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РЕЂУЈУ ЈЕ 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ЗРЕЛЕ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ИТ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УНКЦИЈЕ: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нос хран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игест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тигерна баријер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псорпција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ТАБОЛИЧКИ   ПРОЦЕС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НАЛНА  ХОМЕОСТАЗ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762120" y="1219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АКТОРИ КОЈИ УТИЧУ НА Е и Н ПОТРЕБ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762120" y="1066680"/>
            <a:ext cx="7010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833040" y="2819520"/>
            <a:ext cx="8390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РЖАВАЊЕ ПОСТОЈЕЋИХ ТКИВ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ГРАЂИВАЊЕ НОВИХ ТКИВ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КА АКТИВНОС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ДИВИДУАЛНЕ РАЗЛИКЕ У ПОТРЕБАМА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8:23:35Z</dcterms:created>
  <dc:creator>No Name</dc:creator>
  <dc:description/>
  <dc:language>en-US</dc:language>
  <cp:lastModifiedBy>USER</cp:lastModifiedBy>
  <dcterms:modified xsi:type="dcterms:W3CDTF">2017-09-25T06:29:29Z</dcterms:modified>
  <cp:revision>63</cp:revision>
  <dc:subject/>
  <dc:title>PowerPoint Presentation</dc:title>
</cp:coreProperties>
</file>