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2BA-66D5-4D7F-8057-62FEE813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37D-E282-4CB3-AF26-0D89B206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F6D-0161-4412-A9E3-C80E0BC8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A29-BBCE-47FB-8FA0-D5F8099A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360-8055-4C81-B2A8-8E0E70FD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4B0-A34E-44B1-A1F6-05DB24E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159-E515-47E7-B9C1-4AD3E50F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7E9-7D76-4A22-9672-50783131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189-619B-411B-A1AF-647B474B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5AE-054B-4999-A48E-D233C68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BB2-0861-4CC3-A054-9F70B58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33D-ACD2-436F-BE52-7FD9765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72E-76A1-4967-92D7-B6557B52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0840" y="457200"/>
            <a:ext cx="85219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РЕМ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ЋАЈ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ДИГЕСТ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нкреа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т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холест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нутри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секунд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ја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liа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krodermatiti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patic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0000" y="1179360"/>
            <a:ext cx="9788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УТРИТИВН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Т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Б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В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mbl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d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И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ГИ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РЕ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3920" y="654120"/>
            <a:ext cx="83782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МАЊ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 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ОЛИЗА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ГЕНИТ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Ц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ОТИ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ПРИВ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480" y="971640"/>
            <a:ext cx="10177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УБИТАК НУТРИЈЕНАТ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ж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И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суда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пат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брег__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јаб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н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рн 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82280" y="324000"/>
            <a:ext cx="7848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ORE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A N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Ђ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У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5: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ТПРОСЕЧ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Ш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И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ЛО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вивалент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M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 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RV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ЛОУ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46360" y="609480"/>
            <a:ext cx="72414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Л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Ш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ЕН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В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КУНД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УН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533520"/>
            <a:ext cx="754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тив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елеменат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74120" y="743040"/>
            <a:ext cx="732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ФЕ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ЦИЈ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ЕРТИРЕ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РЕН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. CROH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ИЈАК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554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ЕСТИ МАЈ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х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диопулмон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 есенциј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533520"/>
            <a:ext cx="97534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ОБ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НУТР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60%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О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1160" y="1371600"/>
            <a:ext cx="6891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ДОВОЉАН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НОС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2800" y="628560"/>
            <a:ext cx="6907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М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3840" y="666720"/>
            <a:ext cx="7912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ПЉ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Њ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ЛБ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П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8840" y="961920"/>
            <a:ext cx="6685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РА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СТРО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УСН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У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ИЛОР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4:27:22Z</dcterms:created>
  <dc:creator>No Name</dc:creator>
  <dc:description/>
  <dc:language>en-US</dc:language>
  <cp:lastModifiedBy>Corporate Edition</cp:lastModifiedBy>
  <dcterms:modified xsi:type="dcterms:W3CDTF">2014-08-23T07:31:02Z</dcterms:modified>
  <cp:revision>33</cp:revision>
  <dc:subject/>
  <dc:title>PowerPoint Presentation</dc:title>
</cp:coreProperties>
</file>