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8BB-EFDF-4210-B290-16FF0064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271-226F-4A6C-87E0-627526BF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71B-1227-40A0-AF51-38E6DF978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A90-4B9D-40FD-A7D1-53A1D5AF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D43-D3A8-43A5-BDF3-1BD87416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4DA-7C4A-46C8-9D0C-B006B471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9B5-B4EE-4A97-A69C-53058A2D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7A3-813E-44DB-8954-235786F2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A73-30C7-4D46-B2F6-AFF78DE3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16E-5AAF-43CE-AB25-603BA4A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F6D-3187-4B90-BFD6-6AC361A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FFF-AB64-480A-96F9-8ACF32AE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155-AD10-4999-842F-F888954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961-864C-4106-9379-A6DD707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89A-F524-4B16-AACD-9BB22E1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DE8-8485-466D-9B16-31B0894D9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760" y="1004760"/>
            <a:ext cx="5078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ЦЕ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853560" y="2747880"/>
            <a:ext cx="6476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КОМПЛЕ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СУФИЦИЈЕН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РЕОГЕН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ЖУЧ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КИСЕЛ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РНИТИНА</a:t>
            </a:r>
            <a:r>
              <a:rPr b="1" lang="sl-SI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725120" y="928800"/>
            <a:ext cx="471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НА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ОМЕОСТА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7400" y="2057400"/>
            <a:ext cx="77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Г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ЗРЕ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А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УБУЛС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ФУН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НСУФИЦИЈЕНТ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74880" y="5400720"/>
            <a:ext cx="654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НЕФРО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ПУ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U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МАТУРАЦИЈУ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2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го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НЦИП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ОЈЕЊЕ 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4200" y="2097000"/>
            <a:ext cx="8853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И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335400" y="258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ДРАТИ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1320" y="1903320"/>
            <a:ext cx="78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 /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838080"/>
            <a:ext cx="7772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 ПРОТЕИ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3320" y="2759040"/>
            <a:ext cx="875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ЕЛУДА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ЕПС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ЦРЕВ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А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Т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ВОТО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ПЕЦИФИЧ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898560"/>
            <a:ext cx="83055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3240" y="2960640"/>
            <a:ext cx="871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-40 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НГВ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ГАСТРИ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ТЕРОЦИ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О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914400"/>
            <a:ext cx="8458200" cy="241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sr-R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Г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Н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ЕСТЕРИФИК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М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ОЛИПОПРОТ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ЛОМОКР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МФ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39120" y="3733920"/>
            <a:ext cx="769896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РЕД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Н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ДР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И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ЛИМФО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2120"/>
            <a:ext cx="9067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ГЉЕ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ИДРА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2000" y="2174760"/>
            <a:ext cx="878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ИЛ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ЉУВ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ођењ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ста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ИЛ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одену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јвећ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исахари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АХАРИДА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ХАР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Т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26400" y="828720"/>
            <a:ext cx="85402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ЛУК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МЕТАБОЛИ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 ДА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ЕГР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ЛИ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КЛУ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ИКАРБОНСК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- ПИРОГРОЖЂАНАки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ПРЕТВА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ДЕПОН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ШИЋ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/ 10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асл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ге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зерв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АБОЛИСАЊ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l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l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72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10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852480"/>
            <a:ext cx="9296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ИНИОЦ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Т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АЛ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УКОЗ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АРИЈ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2120" y="1336680"/>
            <a:ext cx="8395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СП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ИФИЧН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ТРАЛУМИНАЛ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цидопепти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је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оли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еристалт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УКО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у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крови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м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19440" y="120960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14040" y="2546280"/>
            <a:ext cx="480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КРЕТОР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УЛАР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МУНИТЕ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64360" y="4657680"/>
            <a:ext cx="7083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ОМПЛ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sl-SI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8:21:29Z</dcterms:created>
  <dc:creator>No Name</dc:creator>
  <dc:description/>
  <dc:language>en-US</dc:language>
  <cp:lastModifiedBy>USER</cp:lastModifiedBy>
  <dcterms:modified xsi:type="dcterms:W3CDTF">2017-09-25T06:32:26Z</dcterms:modified>
  <cp:revision>35</cp:revision>
  <dc:subject/>
  <dc:title>PowerPoint Presentation</dc:title>
</cp:coreProperties>
</file>